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6EF-49E3-40E3-82F0-D6850E44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8E6-D17C-4832-BD03-0A403B0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907-CD37-4DC8-879F-6B7B9BE9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186-B68F-4EC5-B703-A74AF91B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D8B0-6784-4210-AB79-695F06BC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190B-42E0-4749-BAD8-9730DE11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B3FF-809C-4884-B192-8A3268EC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7162-399C-4A52-BDF9-C8176226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364E-739A-4244-9F00-2EF33526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D18-C9DF-4CE8-92D2-2DF9C749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513E-121E-4C02-A012-6FD630D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8D7-7D89-4DB7-B31E-4683A61F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80CF-8326-4150-B904-1733112D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2741-B5B2-4561-AFB2-DDB78D4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BB2C-D4D4-40D5-BD45-BB3D8C78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DB49-9D04-461E-8013-463F1C63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7657-513C-4E0B-B0E7-64FF6D06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CDC-8081-42BB-AAA9-30BDAD3B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5C4-A205-470B-AE3F-29C7B3DD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FD5-3D54-46F9-9E69-1E9AD2B1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34E-1540-4A79-9BA4-C4424DEA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875-8014-462C-A835-9C36F8D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78D-B879-4967-BDDC-D0CE3AD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6C5-E0E5-42E7-B536-DC9ADA0B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CCD-91AA-4D05-BD05-64BD2F3D84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4A9B-BD95-4ECE-ACB3-A8814570A4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A1F-A51B-4056-A193-CB74696B6A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AB7-A00D-45C1-B339-A9B8BB9291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FF8-7C96-4B24-A070-5A60AC40A1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F0B-507D-416E-97D3-C3D4261728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D57-28AB-46AE-8F4B-F3C6913BC9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889-70CC-4B94-AB96-AFF3A42AB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570-87DD-479D-8861-A06132FFA7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2A5-ABD2-40B6-9756-EF2CAB3DBB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F19-9452-4CEE-9FB0-C8058C6989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522-0680-4B7D-B001-6D69E2417D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41B-BA79-4E31-9D68-3514AB9BE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4CA-4929-4070-8A47-2E7DB82932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E4A-8578-4DC1-8B82-0282AAD33D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11C-9F79-40F6-9A04-154F3120B5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BBF-E030-404A-9D82-9BFBA3B1B4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C7D-BB3F-46BB-848B-255834AB2C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CDF-75E3-4D12-B72F-3F3F2206F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737-2556-4280-B04E-1880DC9100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B42-487A-4636-AD91-F54F8006FD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2FE-1A50-4C26-8D16-AD7CA62C2A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27B-DF04-4E3A-AC51-5C2F18C909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5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A6A-5E3E-4F3B-A908-804FA65CD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3FA-C2A7-489F-8BAD-238C18FD55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16T14:06:51Z</dcterms:modified>
  <cp:revision>16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9374035</vt:r8>
  </property>
  <property fmtid="{D5CDD505-2E9C-101B-9397-08002B2CF9AE}" pid="3" name="_AuthorEmail">
    <vt:lpwstr>Ellen.Gay@cms.hhs.gov</vt:lpwstr>
  </property>
  <property fmtid="{D5CDD505-2E9C-101B-9397-08002B2CF9AE}" pid="4" name="_AuthorEmailDisplayName">
    <vt:lpwstr>Gay, Ellen M.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